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867-DF93-4C79-8555-1DDEA4F6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18A-570D-45DF-B556-2243C45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F13-CFDC-4D5B-92CC-09E56181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15B-6EA7-4E93-A7C5-C6E75768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C82-0653-49A3-935C-FD78BD5A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5F4-A8F7-40DF-9B23-2AEA59D4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05C-A8B9-467B-9085-91047D4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EB1-3497-4D18-A065-48F3EF1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491-4712-43DA-AB6D-32EACA9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33E-D9A9-454D-9438-7CF0D34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8AB-851E-4FBD-A721-7FC44299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7DD-4A10-40BB-A56E-E60EE35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9FB1-F1DB-4957-B591-E8F8BC24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7524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obby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874600">
            <a:off x="609120" y="0"/>
            <a:ext cx="365760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91120" y="685800"/>
            <a:ext cx="40384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2971800"/>
            <a:ext cx="1600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680" y="3581280"/>
            <a:ext cx="26672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62720" y="5276880"/>
            <a:ext cx="31240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ow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thing that must be carefully read white background on black text is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739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have done a lot of combos with color of text, pape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ook a hour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and preparation took 10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my display took around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t took around 13 h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d376.com/jh/staff/riffelc/riffel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designfromscratch.com/basics/readability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brary.albany.edu/imc/webdesign/page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credible.co.uk/user-friendly-resources/web-usability/web-page-readabilit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blogdesign.com/blog-usability/30-ways-to-improve-readabilit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dialoot.com/blog/5-tips-for-improving-readability-on-your-websi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dvl.com/Graphics/Color/color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mediazine.com/design-articles/technique-theory/rule-three-contrast-contrast-contras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lormatters.com/opti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ringerlink.com/content/e7w372883xv6786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ealth.yahoo.com/vision-living/macular-degeneration-coping-with-reduced-vision/healthwise--rt127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useof.org/sensitivity.htm#Contrast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i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arents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aper color with black text is easies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211428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09412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3809880"/>
            <a:ext cx="1965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0"/>
            <a:ext cx="17794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ntrast makes it easier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you read is black text and white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262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everyone  will choose the white background as the easiest because of the contrast, and that blue will be the har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ssage in black ink in dark blue, red, yellow, green, and white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sponse sheet p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267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eople t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fill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384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age is lighter in color it is easier for people to see if you have black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more vibrant color, like yellow, were easier for people to 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r the number, the easier it was for people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:1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: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:2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:3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:4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99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most part I was right, white was the easiest for people to read, but some people said yellow was easiest, so there was variety. But I was also right in that a  light background is best if you have black text, and that background color does affect read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5-08T14:28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